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9.wmf" ContentType="image/x-wmf"/>
  <Override PartName="/ppt/media/image8.wmf" ContentType="image/x-wmf"/>
  <Override PartName="/ppt/media/image13.png" ContentType="image/png"/>
  <Override PartName="/ppt/media/image18.jpeg" ContentType="image/jpeg"/>
  <Override PartName="/ppt/media/image17.png" ContentType="image/png"/>
  <Override PartName="/ppt/media/image16.gif" ContentType="image/gif"/>
  <Override PartName="/ppt/media/image14.jpeg" ContentType="image/jpeg"/>
  <Override PartName="/ppt/media/image1.wmf" ContentType="image/x-wmf"/>
  <Override PartName="/ppt/media/image2.png" ContentType="image/png"/>
  <Override PartName="/ppt/media/image15.gif" ContentType="image/gi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2.png" ContentType="image/png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Click to move the slide</a:t>
            </a: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86C20-8C49-4445-ADB4-D44CD521ED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ellular component ontology also has a 3D interpretation…this can be made explicit by augmenting the cellular location ontology with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clearly expressed relations of part-hood, adjacency etc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These terms can also be ‘linked’ to a set of co-ordinates in an im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issue ignored by most ontologies is the time-dependence of annotations. A particular gene product is in a particular cellular compartment at a particular time…and that can change at a subsequent time. Most current GO analyses programs do not factor in the temporal dimension, which I believe is import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[See the slide in “view slide show” mode to see the animation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both time and 3d structure matter. Where is a signal sensed? How fast does it travel to the next agent (and where?)…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course, mRNA levels are just part of the story. We’ll need to integrate a lot more data typ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in expression, Histopathology images, Protein modifications, interaction partners…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eping in mind the relative orientation (temporal and spatial) of the enti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f we had all the data explicitly annotated with ontologies that express these relationships, we can perform more “rich” data ana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[See the slide in “view slide show” mode to see the animation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ot of applications exist to analyze gene lists using the Gene Ontology. Very few applications attempt to “correlate” the annotations in a given GO aspect with the shapes of the gene expression profiles and annotations in the remaining two GO aspec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believe that the tuple of mf, bp, cl conveys a lot more meaning than a single annotation in any one of the orthogonal GO aspec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ally, a sentence conveying &lt;Some molecular function&gt;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&lt;some biological process&gt;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&lt;some cellular location&gt; is more meaningful than the three terms separate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data from a particular experiment are analyzed using a “low” level ontology such as the GO….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we need a “high” level ontology to capture the resul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currently the results are articulated in natural language in a paper (which some one has to “mine” using text analysis and other ontologies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OL provides the grammar of generating (or reducing) GO terms and demonstrates that they are more “regular” than natural langu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onship ontology provides a clear definition of basic relations in bio-medicine in an attempt to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intain clear semantics of the relati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n all ontolog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data from a particular experiment are analyzed using a “low” level ontology such as the GO….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e need a “high” level ontology to capture the resul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currently the results are articulated in natural language in a paper (which some one has to “mine” using text analysis and other ontologies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t would be a lot better if we articulated our “conclusions” in an ontology as we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empt to integrate multiple knowledge sources via anato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owever, simple mapping is not enough! I believe that we also need to specify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HOW TO COMBINE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erms from different ontologies as “terminals” to create a production at a higher lev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lead into next slid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FBF8-E4FC-415E-847B-BB049C73B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D78C-F6C7-4694-9AD1-6794D6233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0C51-819E-4FFA-BE1D-ACF6579F3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D486-2FB7-4AA1-869A-08827000B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7254-03A6-4CCB-BBCF-717969AD3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A566-44C1-4258-91FC-D6601E52B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C66B-C115-4C36-AE83-3933B2A0D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079A-DBB1-49BF-AD63-0AA724419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2120" y="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B630-EFE5-4ED3-B821-97D64D8BE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3B67-DCAA-4DF5-96D8-BD0E1971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0C34-6D9B-47DC-A735-7A5BBB63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F8E1-EAE2-476F-96C6-7AE491157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Click to edit the title text format</a:t>
            </a: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E0B26-7103-4342-A4DF-5CB89ED39787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14400" y="762120"/>
            <a:ext cx="7458120" cy="90360"/>
          </a:xfrm>
          <a:custGeom>
            <a:avLst/>
            <a:gdLst/>
            <a:ahLst/>
            <a:rect l="l" t="t" r="r" b="b"/>
            <a:pathLst>
              <a:path w="4753" h="1">
                <a:moveTo>
                  <a:pt x="0" y="0"/>
                </a:moveTo>
                <a:lnTo>
                  <a:pt x="4752" y="0"/>
                </a:lnTo>
                <a:lnTo>
                  <a:pt x="4742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Ontology based analyses methods ++ </a:t>
            </a: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develop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 grammar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 for making productions using mf, bp, cl: </a:t>
            </a: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Garamond"/>
              </a:rPr>
              <a:t>derive a higher level grammar for next level of productions </a:t>
            </a:r>
            <a:r>
              <a:rPr b="0" lang="en-US" sz="20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cc00"/>
                </a:solidFill>
                <a:latin typeface="Garamond"/>
              </a:rPr>
              <a:t> derive a formal annotation language?</a:t>
            </a:r>
            <a:endParaRPr b="0" lang="en-US" sz="2000" spc="-1" strike="noStrike">
              <a:solidFill>
                <a:srgbClr val="ffcc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Garamond"/>
              </a:rPr>
              <a:t>Add </a:t>
            </a:r>
            <a:r>
              <a:rPr b="1" lang="en-US" sz="2400" spc="-1" strike="noStrike">
                <a:solidFill>
                  <a:srgbClr val="b2b2b2"/>
                </a:solidFill>
                <a:latin typeface="Garamond"/>
              </a:rPr>
              <a:t>structure awareness</a:t>
            </a:r>
            <a:r>
              <a:rPr b="0" lang="en-US" sz="2400" spc="-1" strike="noStrike">
                <a:solidFill>
                  <a:srgbClr val="b2b2b2"/>
                </a:solidFill>
                <a:latin typeface="Garamond"/>
              </a:rPr>
              <a:t>: Create an iconic mapping for cl terms to facilitate novel analyses.</a:t>
            </a: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Garamond"/>
              </a:rPr>
              <a:t>Add </a:t>
            </a:r>
            <a:r>
              <a:rPr b="1" lang="en-US" sz="2400" spc="-1" strike="noStrike">
                <a:solidFill>
                  <a:srgbClr val="b2b2b2"/>
                </a:solidFill>
                <a:latin typeface="Garamond"/>
              </a:rPr>
              <a:t>time awareness</a:t>
            </a:r>
            <a:r>
              <a:rPr b="0" lang="en-US" sz="2400" spc="-1" strike="noStrike">
                <a:solidFill>
                  <a:srgbClr val="b2b2b2"/>
                </a:solidFill>
                <a:latin typeface="Garamond"/>
              </a:rPr>
              <a:t>: express the temporal dimension and have time-dependent annotations</a:t>
            </a: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Semantically rich annotations</a:t>
            </a: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5419800" cy="60199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638680" y="1328760"/>
            <a:ext cx="3505320" cy="2023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781680" y="5867280"/>
            <a:ext cx="121932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W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867280" y="5940360"/>
            <a:ext cx="685800" cy="612720"/>
          </a:xfrm>
          <a:prstGeom prst="leftArrow">
            <a:avLst>
              <a:gd name="adj1" fmla="val 50000"/>
              <a:gd name="adj2" fmla="val 27982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16200000">
            <a:off x="7086240" y="4038480"/>
            <a:ext cx="609840" cy="106668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1066680"/>
              <a:gd name="textAreaBottom" fmla="*/ 1037160 h 1066680"/>
            </a:gdLst>
            <a:ahLst/>
            <a:rect l="textAreaLeft" t="textAreaTop" r="textAreaRight" b="textAreaBottom"/>
            <a:pathLst>
              <a:path w="21600" h="37771">
                <a:moveTo>
                  <a:pt x="3600" y="0"/>
                </a:moveTo>
                <a:arcTo wR="3600" hR="3600" stAng="16200000" swAng="-5400000"/>
                <a:lnTo>
                  <a:pt x="0" y="34171"/>
                </a:lnTo>
                <a:arcTo wR="3600" hR="3600" stAng="10800000" swAng="-5400000"/>
                <a:lnTo>
                  <a:pt x="18000" y="377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H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5400000">
            <a:off x="7049880" y="3465360"/>
            <a:ext cx="685800" cy="612720"/>
          </a:xfrm>
          <a:prstGeom prst="leftArrow">
            <a:avLst>
              <a:gd name="adj1" fmla="val 50000"/>
              <a:gd name="adj2" fmla="val 27982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28600" y="-1440"/>
            <a:ext cx="876312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80880" y="-6480"/>
            <a:ext cx="838224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Ontology based analyses methods ++ </a:t>
            </a: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Garamond"/>
              </a:rPr>
              <a:t>develop </a:t>
            </a:r>
            <a:r>
              <a:rPr b="1" lang="en-US" sz="2400" spc="-1" strike="noStrike">
                <a:solidFill>
                  <a:srgbClr val="b2b2b2"/>
                </a:solidFill>
                <a:latin typeface="Garamond"/>
              </a:rPr>
              <a:t>a grammar</a:t>
            </a:r>
            <a:r>
              <a:rPr b="0" lang="en-US" sz="2400" spc="-1" strike="noStrike">
                <a:solidFill>
                  <a:srgbClr val="b2b2b2"/>
                </a:solidFill>
                <a:latin typeface="Garamond"/>
              </a:rPr>
              <a:t> for making productions using mf, bp, cl: </a:t>
            </a: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Garamond"/>
              </a:rPr>
              <a:t>derive a higher level grammar for next level of productions </a:t>
            </a:r>
            <a:r>
              <a:rPr b="0" lang="en-US" sz="2000" spc="-1" strike="noStrike">
                <a:solidFill>
                  <a:srgbClr val="b2b2b2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b2b2b2"/>
                </a:solidFill>
                <a:latin typeface="Garamond"/>
              </a:rPr>
              <a:t> derive a formal Annotation language?</a:t>
            </a:r>
            <a:endParaRPr b="0" lang="en-US" sz="2000" spc="-1" strike="noStrike">
              <a:solidFill>
                <a:srgbClr val="ffcc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Add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structure awareness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: Create an iconic mapping for cl terms to facilitate novel analyses.</a:t>
            </a: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Garamond"/>
              </a:rPr>
              <a:t>Add </a:t>
            </a:r>
            <a:r>
              <a:rPr b="1" lang="en-US" sz="2400" spc="-1" strike="noStrike">
                <a:solidFill>
                  <a:srgbClr val="b2b2b2"/>
                </a:solidFill>
                <a:latin typeface="Garamond"/>
              </a:rPr>
              <a:t>time awareness</a:t>
            </a:r>
            <a:r>
              <a:rPr b="0" lang="en-US" sz="2400" spc="-1" strike="noStrike">
                <a:solidFill>
                  <a:srgbClr val="b2b2b2"/>
                </a:solidFill>
                <a:latin typeface="Garamond"/>
              </a:rPr>
              <a:t>: express the temporal dimension and have time-dependent annotations</a:t>
            </a: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What about 3D structure of the cell?</a:t>
            </a: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8280" y="1219320"/>
            <a:ext cx="2797200" cy="339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260880" y="2330280"/>
            <a:ext cx="5730840" cy="42991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 rot="2248800">
            <a:off x="1698120" y="5029200"/>
            <a:ext cx="1143000" cy="533520"/>
          </a:xfrm>
          <a:custGeom>
            <a:avLst/>
            <a:gdLst>
              <a:gd name="textAreaLeft" fmla="*/ 199800 w 1143000"/>
              <a:gd name="textAreaRight" fmla="*/ 828720 w 114300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2190600">
            <a:off x="3200040" y="1401840"/>
            <a:ext cx="1066680" cy="609480"/>
          </a:xfrm>
          <a:custGeom>
            <a:avLst/>
            <a:gdLst>
              <a:gd name="textAreaLeft" fmla="*/ 186480 w 1066680"/>
              <a:gd name="textAreaRight" fmla="*/ 773280 w 106668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Payoff: If we have iconic mappings</a:t>
            </a: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We can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browse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 ontologies in an anatomy centered manner</a:t>
            </a: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Can use these new views for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facilitating the annotation process</a:t>
            </a: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Garamond"/>
              </a:rPr>
              <a:t>i.e. improve curator </a:t>
            </a:r>
            <a:r>
              <a:rPr b="0" lang="en-US" sz="2000" spc="-1" strike="noStrike">
                <a:solidFill>
                  <a:srgbClr val="ffcc00"/>
                </a:solidFill>
                <a:latin typeface="Wingdings"/>
                <a:ea typeface="Wingdings"/>
              </a:rPr>
              <a:t></a:t>
            </a:r>
            <a:r>
              <a:rPr b="0" lang="en-US" sz="2000" spc="-1" strike="noStrike">
                <a:solidFill>
                  <a:srgbClr val="ffcc00"/>
                </a:solidFill>
                <a:latin typeface="Garamond"/>
              </a:rPr>
              <a:t> annotation tool interaction</a:t>
            </a:r>
            <a:endParaRPr b="0" lang="en-US" sz="2000" spc="-1" strike="noStrike">
              <a:solidFill>
                <a:srgbClr val="ffcc00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Create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novel visualizations for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interpreting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 high dimensional datasets.</a:t>
            </a: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Garamond"/>
              </a:rPr>
              <a:t>Time course data </a:t>
            </a:r>
            <a:r>
              <a:rPr b="0" lang="en-US" sz="1400" spc="-1" strike="noStrike">
                <a:solidFill>
                  <a:srgbClr val="ffcc00"/>
                </a:solidFill>
                <a:latin typeface="Garamond"/>
              </a:rPr>
              <a:t>[coming few slides later]</a:t>
            </a:r>
            <a:endParaRPr b="0" lang="en-US" sz="1400" spc="-1" strike="noStrike">
              <a:solidFill>
                <a:srgbClr val="ffcc00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Garamond"/>
              </a:rPr>
              <a:t>Integrating gene expression, protein expression and metabolomic datasets.</a:t>
            </a:r>
            <a:endParaRPr b="0" lang="en-US" sz="2000" spc="-1" strike="noStrike">
              <a:solidFill>
                <a:srgbClr val="ffcc00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Ontology based analyses methods ++ </a:t>
            </a: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Garamond"/>
              </a:rPr>
              <a:t>develop </a:t>
            </a:r>
            <a:r>
              <a:rPr b="1" lang="en-US" sz="2400" spc="-1" strike="noStrike">
                <a:solidFill>
                  <a:srgbClr val="b2b2b2"/>
                </a:solidFill>
                <a:latin typeface="Garamond"/>
              </a:rPr>
              <a:t>a grammar</a:t>
            </a:r>
            <a:r>
              <a:rPr b="0" lang="en-US" sz="2400" spc="-1" strike="noStrike">
                <a:solidFill>
                  <a:srgbClr val="b2b2b2"/>
                </a:solidFill>
                <a:latin typeface="Garamond"/>
              </a:rPr>
              <a:t> for making productions using mf, bp, cl: </a:t>
            </a: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2b2b2"/>
                </a:solidFill>
                <a:latin typeface="Garamond"/>
              </a:rPr>
              <a:t>derive a higher level grammar for next level of productions </a:t>
            </a:r>
            <a:r>
              <a:rPr b="0" lang="en-US" sz="2000" spc="-1" strike="noStrike">
                <a:solidFill>
                  <a:srgbClr val="b2b2b2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b2b2b2"/>
                </a:solidFill>
                <a:latin typeface="Garamond"/>
              </a:rPr>
              <a:t> derive a formal Annotation language?</a:t>
            </a:r>
            <a:endParaRPr b="0" lang="en-US" sz="2000" spc="-1" strike="noStrike">
              <a:solidFill>
                <a:srgbClr val="ffcc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Garamond"/>
              </a:rPr>
              <a:t>Add </a:t>
            </a:r>
            <a:r>
              <a:rPr b="1" lang="en-US" sz="2400" spc="-1" strike="noStrike">
                <a:solidFill>
                  <a:srgbClr val="b2b2b2"/>
                </a:solidFill>
                <a:latin typeface="Garamond"/>
              </a:rPr>
              <a:t>structure awareness</a:t>
            </a:r>
            <a:r>
              <a:rPr b="0" lang="en-US" sz="2400" spc="-1" strike="noStrike">
                <a:solidFill>
                  <a:srgbClr val="b2b2b2"/>
                </a:solidFill>
                <a:latin typeface="Garamond"/>
              </a:rPr>
              <a:t>: Create an iconic mapping for cl terms to facilitate novel analyses. </a:t>
            </a: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Add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ime awareness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: express the temporal dimension and have time-dependent annotations</a:t>
            </a: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What about the temporal dimension?</a:t>
            </a: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2360" y="1981080"/>
            <a:ext cx="3124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Garamond"/>
              </a:rPr>
              <a:t>Overlay time course data onto the GO tree.</a:t>
            </a:r>
            <a:endParaRPr b="0" lang="en-US" sz="2000" spc="-1" strike="noStrike">
              <a:solidFill>
                <a:srgbClr val="ffcc00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Garamond"/>
              </a:rPr>
              <a:t>See how the ‘enriched’ categories change over time.</a:t>
            </a:r>
            <a:endParaRPr b="0" lang="en-US" sz="2000" spc="-1" strike="noStrike">
              <a:solidFill>
                <a:srgbClr val="ffcc00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Garamond"/>
              </a:rPr>
              <a:t>Understand the dynamics of the biological phenomenon being studied.</a:t>
            </a:r>
            <a:endParaRPr b="0" lang="en-US" sz="2000" spc="-1" strike="noStrike">
              <a:solidFill>
                <a:srgbClr val="ffcc00"/>
              </a:solidFill>
              <a:latin typeface="Garamond"/>
            </a:endParaRPr>
          </a:p>
          <a:p>
            <a:pPr lvl="1" marL="754200" indent="-3477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Garamond"/>
              </a:rPr>
              <a:t>Will complement pathway based analysis approaches</a:t>
            </a:r>
            <a:endParaRPr b="0" lang="en-US" sz="1800" spc="-1" strike="noStrike">
              <a:solidFill>
                <a:srgbClr val="ffcc00"/>
              </a:solidFill>
              <a:latin typeface="Garamond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429000" y="1676520"/>
            <a:ext cx="5638680" cy="49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How about cell structure and time?</a:t>
            </a: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276720" y="2343240"/>
            <a:ext cx="5715000" cy="42861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1920" y="1211400"/>
            <a:ext cx="2833560" cy="3436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61920" y="1219320"/>
            <a:ext cx="2833560" cy="342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2248800">
            <a:off x="1698120" y="5029200"/>
            <a:ext cx="1143000" cy="533520"/>
          </a:xfrm>
          <a:custGeom>
            <a:avLst/>
            <a:gdLst>
              <a:gd name="textAreaLeft" fmla="*/ 199800 w 1143000"/>
              <a:gd name="textAreaRight" fmla="*/ 828720 w 114300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2190600">
            <a:off x="3200040" y="1401840"/>
            <a:ext cx="1066680" cy="609480"/>
          </a:xfrm>
          <a:custGeom>
            <a:avLst/>
            <a:gdLst>
              <a:gd name="textAreaLeft" fmla="*/ 186480 w 1066680"/>
              <a:gd name="textAreaRight" fmla="*/ 773280 w 106668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3354480" y="2421000"/>
            <a:ext cx="5713200" cy="42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GO based analysis of microarray data</a:t>
            </a: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39720" y="844560"/>
            <a:ext cx="7862760" cy="58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TF-binding site &amp; Annotation data</a:t>
            </a: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69800" y="2514600"/>
            <a:ext cx="1892520" cy="4221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276720" y="1727280"/>
            <a:ext cx="5557680" cy="34542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28600" y="12952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TF-sites show that the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ABRE and GBF sites are enriched</a:t>
            </a: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 in these gen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00400" y="5334120"/>
            <a:ext cx="5867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Component and function annotations show that these genes are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located in the chloroplast thylakoid membrane</a:t>
            </a: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, are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part of the light-harvesting complex</a:t>
            </a: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 and have the molecular 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Arial"/>
              </a:rPr>
              <a:t>function of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 chlorophyll binding and electron transport</a:t>
            </a: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Clench is useful … but we need more!</a:t>
            </a: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2971800"/>
          </a:xfrm>
          <a:prstGeom prst="rect">
            <a:avLst/>
          </a:prstGeom>
          <a:solidFill>
            <a:srgbClr val="eaeaea"/>
          </a:solidFill>
          <a:ln w="31680">
            <a:solidFill>
              <a:srgbClr val="ff66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lench</a:t>
            </a: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helps the biologist interpret a list of genes</a:t>
            </a: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and form a result statement such as:</a:t>
            </a:r>
            <a:endParaRPr b="0" lang="en-US" sz="2800" spc="-1" strike="noStrike">
              <a:solidFill>
                <a:srgbClr val="ffcc00"/>
              </a:solidFill>
              <a:latin typeface="Garamond"/>
            </a:endParaRPr>
          </a:p>
          <a:p>
            <a:pPr lvl="1" marL="671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  <a:p>
            <a:pPr lvl="1" marL="671400" indent="-33732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Garamond"/>
              </a:rPr>
              <a:t>The </a:t>
            </a:r>
            <a:r>
              <a:rPr b="0" lang="en-US" sz="2200" spc="-1" strike="noStrike">
                <a:solidFill>
                  <a:srgbClr val="ff0000"/>
                </a:solidFill>
                <a:latin typeface="Garamond"/>
              </a:rPr>
              <a:t>photosynthesis genes</a:t>
            </a:r>
            <a:r>
              <a:rPr b="0" lang="en-US" sz="2200" spc="-1" strike="noStrike">
                <a:solidFill>
                  <a:srgbClr val="3333cc"/>
                </a:solidFill>
                <a:latin typeface="Garamond"/>
              </a:rPr>
              <a:t> located in the </a:t>
            </a:r>
            <a:r>
              <a:rPr b="0" lang="en-US" sz="2200" spc="-1" strike="noStrike">
                <a:solidFill>
                  <a:srgbClr val="ff0000"/>
                </a:solidFill>
                <a:latin typeface="Garamond"/>
              </a:rPr>
              <a:t>chloroplast</a:t>
            </a:r>
            <a:r>
              <a:rPr b="0" lang="en-US" sz="2200" spc="-1" strike="noStrike">
                <a:solidFill>
                  <a:srgbClr val="3333cc"/>
                </a:solidFill>
                <a:latin typeface="Garamond"/>
              </a:rPr>
              <a:t> are </a:t>
            </a:r>
            <a:r>
              <a:rPr b="0" lang="en-US" sz="2200" spc="-1" strike="noStrike">
                <a:solidFill>
                  <a:srgbClr val="ff0000"/>
                </a:solidFill>
                <a:latin typeface="Garamond"/>
              </a:rPr>
              <a:t>repressed</a:t>
            </a:r>
            <a:r>
              <a:rPr b="0" lang="en-US" sz="2200" spc="-1" strike="noStrike">
                <a:solidFill>
                  <a:srgbClr val="3333cc"/>
                </a:solidFill>
                <a:latin typeface="Garamond"/>
              </a:rPr>
              <a:t> in response to ozone stress and have the </a:t>
            </a:r>
            <a:r>
              <a:rPr b="0" lang="en-US" sz="2200" spc="-1" strike="noStrike">
                <a:solidFill>
                  <a:srgbClr val="ff0000"/>
                </a:solidFill>
                <a:latin typeface="Garamond"/>
              </a:rPr>
              <a:t>ABRE binding site enriched</a:t>
            </a:r>
            <a:r>
              <a:rPr b="0" lang="en-US" sz="2200" spc="-1" strike="noStrike">
                <a:solidFill>
                  <a:srgbClr val="3333cc"/>
                </a:solidFill>
                <a:latin typeface="Garamond"/>
              </a:rPr>
              <a:t> in their promoters.</a:t>
            </a:r>
            <a:endParaRPr b="0" lang="en-US" sz="2200" spc="-1" strike="noStrike">
              <a:solidFill>
                <a:srgbClr val="ffcc00"/>
              </a:solidFill>
              <a:latin typeface="Garamond"/>
            </a:endParaRPr>
          </a:p>
          <a:p>
            <a:pPr lvl="1" marL="671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aramond"/>
              </a:rPr>
              <a:t>More at www.personal.psu.edu/nhs109/Clench</a:t>
            </a:r>
            <a:endParaRPr b="0" lang="en-US" sz="2600" spc="-1" strike="noStrike">
              <a:solidFill>
                <a:srgbClr val="ffcc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Within-ontology “grammars”</a:t>
            </a: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85440" y="1523880"/>
            <a:ext cx="3809880" cy="4572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52280" y="1143000"/>
            <a:ext cx="5319720" cy="5715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809880" y="3200400"/>
            <a:ext cx="762120" cy="53352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722000">
            <a:off x="4343040" y="4626000"/>
            <a:ext cx="685800" cy="250920"/>
          </a:xfrm>
          <a:prstGeom prst="ellipse">
            <a:avLst/>
          </a:pr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114300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952880" y="4724280"/>
            <a:ext cx="76212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638680" y="312408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OB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15000" y="4343400"/>
            <a:ext cx="327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Relations Ont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Between-ontology “grammars”</a:t>
            </a: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3047760" cy="1968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791320" y="1219320"/>
            <a:ext cx="3047760" cy="19684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cxnSp>
        <p:nvCxnSpPr>
          <p:cNvPr id="72" name=""/>
          <p:cNvCxnSpPr/>
          <p:nvPr/>
        </p:nvCxnSpPr>
        <p:spPr>
          <a:xfrm flipH="1" rot="16200000">
            <a:off x="3846240" y="495720"/>
            <a:ext cx="2520" cy="5258520"/>
          </a:xfrm>
          <a:prstGeom prst="curvedConnector5">
            <a:avLst>
              <a:gd name="adj1" fmla="val 132400000"/>
              <a:gd name="adj2" fmla="val 50000"/>
              <a:gd name="adj3" fmla="val 132400000"/>
            </a:avLst>
          </a:prstGeom>
          <a:ln w="255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3124080" y="4525920"/>
            <a:ext cx="1752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?&lt;link&gt;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33720" y="5334120"/>
            <a:ext cx="5029200" cy="1068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&lt;Some MF&gt;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in</a:t>
            </a: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 &lt;Some BP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Garamond"/>
              </a:rPr>
              <a:t>Payoff: If we have between-ontology grammars</a:t>
            </a:r>
            <a:endParaRPr b="1" lang="en-US" sz="28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We can systematically store th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interpretations (or results)</a:t>
            </a: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 of GO based analyses</a:t>
            </a:r>
            <a:endParaRPr b="0" lang="en-US" sz="2800" spc="-1" strike="noStrike">
              <a:solidFill>
                <a:srgbClr val="ffcc00"/>
              </a:solidFill>
              <a:latin typeface="Garamond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We can browse [gene-expression] data in [particular ontology] centric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views</a:t>
            </a:r>
            <a:endParaRPr b="0" lang="en-US" sz="2800" spc="-1" strike="noStrike">
              <a:solidFill>
                <a:srgbClr val="ffcc00"/>
              </a:solidFill>
              <a:latin typeface="Garamond"/>
            </a:endParaRPr>
          </a:p>
          <a:p>
            <a:pPr lvl="1" marL="720720" indent="-277200">
              <a:spcBef>
                <a:spcPts val="601"/>
              </a:spcBef>
              <a:buClr>
                <a:srgbClr val="ffcc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Work of Gennari et al</a:t>
            </a: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We can create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semantically rich annotations</a:t>
            </a: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 that span multiple ontologies.</a:t>
            </a:r>
            <a:endParaRPr b="0" lang="en-US" sz="2800" spc="-1" strike="noStrike">
              <a:solidFill>
                <a:srgbClr val="ffcc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Storing GO based analysis reports</a:t>
            </a: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44680" y="763560"/>
            <a:ext cx="8096040" cy="60721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549680" y="2847960"/>
            <a:ext cx="4480200" cy="1108080"/>
          </a:xfrm>
          <a:prstGeom prst="rect">
            <a:avLst/>
          </a:prstGeom>
          <a:solidFill>
            <a:srgbClr val="eaeaea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Garamond"/>
              </a:rPr>
              <a:t>photosynthesis genes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located in the chloroplast ar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Garamond"/>
              </a:rPr>
              <a:t>repressed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in response to ozone stress and have the ABRE binding site </a:t>
            </a: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enriched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in their promot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5400000">
            <a:off x="6201000" y="4372560"/>
            <a:ext cx="1030320" cy="546120"/>
          </a:xfrm>
          <a:custGeom>
            <a:avLst/>
            <a:gdLst>
              <a:gd name="textAreaLeft" fmla="*/ 160920 w 1030320"/>
              <a:gd name="textAreaRight" fmla="*/ 871920 w 1030320"/>
              <a:gd name="textAreaTop" fmla="*/ 108720 h 546120"/>
              <a:gd name="textAreaBottom" fmla="*/ 437400 h 546120"/>
            </a:gdLst>
            <a:ahLst/>
            <a:rect l="textAreaLeft" t="textAreaTop" r="textAreaRight" b="textAreaBottom"/>
            <a:pathLst>
              <a:path w="21600" h="21600">
                <a:moveTo>
                  <a:pt x="3375" y="4299"/>
                </a:moveTo>
                <a:lnTo>
                  <a:pt x="16085" y="4299"/>
                </a:lnTo>
                <a:lnTo>
                  <a:pt x="16085" y="0"/>
                </a:lnTo>
                <a:lnTo>
                  <a:pt x="21600" y="10800"/>
                </a:lnTo>
                <a:lnTo>
                  <a:pt x="16085" y="21600"/>
                </a:lnTo>
                <a:lnTo>
                  <a:pt x="16085" y="17301"/>
                </a:lnTo>
                <a:lnTo>
                  <a:pt x="3375" y="17301"/>
                </a:lnTo>
                <a:close/>
              </a:path>
              <a:path w="21600" h="21600">
                <a:moveTo>
                  <a:pt x="0" y="4299"/>
                </a:moveTo>
                <a:lnTo>
                  <a:pt x="675" y="4299"/>
                </a:lnTo>
                <a:lnTo>
                  <a:pt x="675" y="17301"/>
                </a:lnTo>
                <a:lnTo>
                  <a:pt x="0" y="17301"/>
                </a:lnTo>
                <a:close/>
              </a:path>
              <a:path w="21600" h="21600">
                <a:moveTo>
                  <a:pt x="1350" y="4299"/>
                </a:moveTo>
                <a:lnTo>
                  <a:pt x="2700" y="4299"/>
                </a:lnTo>
                <a:lnTo>
                  <a:pt x="2700" y="17301"/>
                </a:lnTo>
                <a:lnTo>
                  <a:pt x="1350" y="17301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73440" y="5351400"/>
            <a:ext cx="4480200" cy="1346400"/>
          </a:xfrm>
          <a:prstGeom prst="rect">
            <a:avLst/>
          </a:prstGeom>
          <a:solidFill>
            <a:srgbClr val="eaeaea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Garamond"/>
              </a:rPr>
              <a:t>genes of the photosynthesis proteins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located in the chloroplast show 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Garamond"/>
              </a:rPr>
              <a:t>decrease in their mRNA level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in response to ozone stress and have the ABRE binding site </a:t>
            </a: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enriched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in their promot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Anatomy centric views by Gennari et al</a:t>
            </a: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Established links between the cellular structure terms in FMA and the GO cellular component terms</a:t>
            </a: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Garamond"/>
              </a:rPr>
              <a:t>Did it for 150 terms</a:t>
            </a:r>
            <a:endParaRPr b="0" lang="en-US" sz="2000" spc="-1" strike="noStrike">
              <a:solidFill>
                <a:srgbClr val="ffcc00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Established links between tissue-region annotations and brain anatomy terms in FMA</a:t>
            </a: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334120" y="1508040"/>
            <a:ext cx="3352680" cy="19368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257800" y="4173480"/>
            <a:ext cx="3429000" cy="25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Cyclin D1 is associated with cellular proliferation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</a:t>
            </a: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 col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Cyclin D1 is associated with neuronal degeneration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</a:t>
            </a: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 br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Cyclin D1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as &lt;mf&gt; in</a:t>
            </a: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 cellular proliferation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</a:t>
            </a: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 col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igam Shah</cp:lastModifiedBy>
  <dcterms:modified xsi:type="dcterms:W3CDTF">2005-11-10T23:58:18Z</dcterms:modified>
  <cp:revision>44</cp:revision>
  <dc:subject/>
  <dc:title>PowerPoint Presentation</dc:title>
</cp:coreProperties>
</file>